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6AB-B622-4751-9B51-9767E02A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BE6-CD4C-410B-A08B-4D9D6A8C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41F-BBA2-4D86-8E36-8ABEF56B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97E-17E2-46B3-BF21-32866B92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8F6-6389-4434-A56A-269BC4C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069-4DB6-4CBC-9B1A-F8BD4CF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059-5CF3-4107-ACF4-74729983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037-EBC8-4D2C-94F3-895B053A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4EA-0924-40F3-8D2E-3560CC6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218-3D32-4C36-B49A-8D50BBCA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316-83FE-4D82-BE19-B79B92C9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D68-BDC1-4780-92A5-EC26F196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A320-BAB1-4633-8EBE-3B4782C761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1447920"/>
            <a:ext cx="589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Differ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y Design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914400"/>
            <a:ext cx="624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2:42Z</dcterms:modified>
  <cp:revision>214</cp:revision>
  <dc:subject/>
  <dc:title>Slide 1</dc:title>
</cp:coreProperties>
</file>